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7320" y="2387160"/>
            <a:ext cx="11430000" cy="2908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7320" y="5397120"/>
            <a:ext cx="11430000" cy="31878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t">
            <a:normAutofit fontScale="9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1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2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3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4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5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6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1269720" y="1727280"/>
            <a:ext cx="10464840" cy="706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73152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29852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84716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2411640" indent="-58320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96028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96028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96028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4772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32732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88820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2465280" indent="-59616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02616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02616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02616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3568320"/>
            <a:ext cx="11430000" cy="2908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87320" y="7543800"/>
            <a:ext cx="11430000" cy="1689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76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13004640" cy="9753480"/>
            <a:chOff x="0" y="0"/>
            <a:chExt cx="13004640" cy="975348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004640" cy="97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4"/>
            <a:stretch/>
          </p:blipFill>
          <p:spPr>
            <a:xfrm>
              <a:off x="6832440" y="2222640"/>
              <a:ext cx="4724640" cy="605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4600" y="2476440"/>
            <a:ext cx="6248160" cy="28195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7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44600" y="5397120"/>
            <a:ext cx="6248160" cy="25146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t">
            <a:normAutofit fontScale="6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1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2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3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4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5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6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447920" y="3124080"/>
            <a:ext cx="463536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496440" indent="-3837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926280" indent="-3855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340640" indent="-38520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76580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671400" indent="-5194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253160" indent="-5216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813680" indent="-521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2388960" indent="-5198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950200" indent="-5198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950200" indent="-5198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950200" indent="-5198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447920" y="3124080"/>
            <a:ext cx="463536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496440" indent="-3837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926280" indent="-3855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340640" indent="-38520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76580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051400" y="3124080"/>
            <a:ext cx="368316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2000"/>
          </a:bodyPr>
          <a:p>
            <a:pPr marL="452520" indent="-3499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844560" indent="-3513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222200" indent="-35100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609920" indent="-350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1987920" indent="-350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1987920" indent="-350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1987920" indent="-350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hyperlink" Target="http://www.target.com/" TargetMode="External"/><Relationship Id="rId5" Type="http://schemas.openxmlformats.org/officeDocument/2006/relationships/image" Target="../media/image5.png"/><Relationship Id="rId6" Type="http://schemas.openxmlformats.org/officeDocument/2006/relationships/hyperlink" Target="http://www.walmart.com/" TargetMode="External"/><Relationship Id="rId7" Type="http://schemas.openxmlformats.org/officeDocument/2006/relationships/image" Target="../media/image5.png"/><Relationship Id="rId8" Type="http://schemas.openxmlformats.org/officeDocument/2006/relationships/hyperlink" Target="http://www.shopko.com/" TargetMode="External"/><Relationship Id="rId9" Type="http://schemas.openxmlformats.org/officeDocument/2006/relationships/image" Target="../media/image5.png"/><Relationship Id="rId10" Type="http://schemas.openxmlformats.org/officeDocument/2006/relationships/hyperlink" Target="http://www.steinhafels.com/" TargetMode="External"/><Relationship Id="rId11" Type="http://schemas.openxmlformats.org/officeDocument/2006/relationships/image" Target="../media/image5.png"/><Relationship Id="rId12" Type="http://schemas.openxmlformats.org/officeDocument/2006/relationships/hyperlink" Target="http://www.ashleyfurniture.com/" TargetMode="External"/><Relationship Id="rId13" Type="http://schemas.openxmlformats.org/officeDocument/2006/relationships/image" Target="../media/image5.png"/><Relationship Id="rId14" Type="http://schemas.openxmlformats.org/officeDocument/2006/relationships/hyperlink" Target="http://www.bestbuy.com/" TargetMode="External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87320" y="2387160"/>
            <a:ext cx="11430000" cy="2908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Mission Impossible </a:t>
            </a:r>
            <a:br>
              <a:rPr sz="8400"/>
            </a:b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or Is it?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87320" y="5397120"/>
            <a:ext cx="11430000" cy="31878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Apartment 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66600" y="125748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Mission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42640" y="2959200"/>
            <a:ext cx="10464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1" marL="1494000" indent="-64800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 TT-Bold"/>
              </a:rPr>
              <a:t>Furnish your 2 bedroom apartment </a:t>
            </a:r>
            <a:endParaRPr b="0" lang="en-US" sz="36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 TT-Bold"/>
              </a:rPr>
              <a:t>You have only $6,000 </a:t>
            </a:r>
            <a:endParaRPr b="0" lang="en-US" sz="36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 TT-Bold"/>
              </a:rPr>
              <a:t>You will need to stay under that amount without going over</a:t>
            </a:r>
            <a:endParaRPr b="0" lang="en-US" sz="36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 TT-Bold"/>
              </a:rPr>
              <a:t>See Consumer Jungle Sheet for what you need to purchase</a:t>
            </a:r>
            <a:endParaRPr b="0" lang="en-US" sz="36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 TT-Bold"/>
              </a:rPr>
              <a:t>Record all cost purchases on sheet</a:t>
            </a:r>
            <a:endParaRPr b="0" lang="en-US" sz="36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Mission Continued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 TT-Bold"/>
              </a:rPr>
              <a:t>Create an iWeb Page  </a:t>
            </a:r>
            <a:endParaRPr b="0" lang="en-US" sz="36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 TT-Bold"/>
              </a:rPr>
              <a:t>Separate Page for each room (4 pages total)</a:t>
            </a:r>
            <a:endParaRPr b="0" lang="en-US" sz="36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 TT-Bold"/>
              </a:rPr>
              <a:t>Pictures of items purchased for each room</a:t>
            </a:r>
            <a:endParaRPr b="0" lang="en-US" sz="36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 TT-Bold"/>
              </a:rPr>
              <a:t>Explanation of why you picked these particular items, cost and websites</a:t>
            </a:r>
            <a:endParaRPr b="0" lang="en-US" sz="36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12520" y="1294920"/>
            <a:ext cx="9271080" cy="1714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Websites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96520" y="2717280"/>
            <a:ext cx="10464840" cy="646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64764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 TT-Bold"/>
              </a:rPr>
              <a:t>Below is a list of websites you can use to purchase these items</a:t>
            </a:r>
            <a:endParaRPr b="0" lang="en-US" sz="36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Bradley Hand ITC TT-Bold"/>
                <a:hlinkClick r:id="rId4"/>
              </a:rPr>
              <a:t>www.target.com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Bradley Hand ITC TT-Bold"/>
                <a:hlinkClick r:id="rId6"/>
              </a:rPr>
              <a:t>www.walmart.com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Bradley Hand ITC TT-Bold"/>
                <a:hlinkClick r:id="rId8"/>
              </a:rPr>
              <a:t>www.shopko.com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Bradley Hand ITC TT-Bold"/>
                <a:hlinkClick r:id="rId10"/>
              </a:rPr>
              <a:t>www.steinhafels.com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Bradley Hand ITC TT-Bold"/>
                <a:hlinkClick r:id="rId12"/>
              </a:rPr>
              <a:t>www.ashleyfurniture.com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Bradley Hand ITC TT-Bold"/>
                <a:hlinkClick r:id="rId14"/>
              </a:rPr>
              <a:t>www.bestbuy.com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radley Hand ITC TT-Bold"/>
              </a:rPr>
              <a:t>www.samsclub.com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radley Hand ITC TT-Bold"/>
              </a:rPr>
              <a:t>www.kohls.com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